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AEDA-AA8C-47A9-948E-05A39A2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F104-1C18-4FB6-B9DB-A370C19C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781C2-5EF1-42DC-A906-17B5A0B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155B-CB6A-46A0-986B-AAFF2F8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5632-5A9B-494E-9004-1B1FB3D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CCC4-5EFC-4CDF-B51D-1DB9FDAE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C81F7-D2D3-44E0-977E-CD19C2AD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196B-7AE1-41E7-A5D4-916EED1C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8933-253F-4DA5-B929-B9AE8719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D1DE8-083E-4FD7-8479-59088F9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AFDF3-B321-4EFB-8769-D0BE595C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269A4-FA9A-49C1-832C-D2475C3B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74E3B-6E03-4C1A-A5B8-E24DFFE1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41721-DCE4-4164-964F-EC08872D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89279-21CA-40A6-97D9-7C6E6F3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5EA64-2F9B-42DE-AF4B-087B94A2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F4F1D-130F-4E4A-909E-556BB80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47C3D-C08E-4439-9E57-76CC92F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9AD-B271-43A0-9652-D18BC01B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BE97E-298A-4CD8-92AD-43C13442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EA3B3-CA1C-4983-94C5-14240D6A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BEC85-1B56-4D36-9BAF-A75C3E89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D4E14-7E17-4E69-96D0-948264F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CC3D3-F237-4238-BA98-72892E0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D6B70-8AF3-4F34-A966-D482E0EB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9CDFB-A7B0-46A5-982E-13358A26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57D3B-E1D5-4331-9008-B79A03D6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D820-BBE5-4832-8BA3-F2068E5F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6437D-DA69-4CF7-9972-B7536A3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578-EC91-4E06-935B-38D2892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242D2-26BC-4F18-9D7B-0C90864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E828-4D8E-4449-8520-04AEE27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6997B-FD7D-4093-936B-D2A2A57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250F1-D111-4D15-96FB-B15A6E3F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934E8-BAEC-43BE-AD31-E813A95D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F4776-AC44-421C-BA56-09AB6928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332D5-8CDC-4513-BF02-ABB8236B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AD607-D4AA-4C91-AFFB-6E17BD2F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05081-F6EC-4C63-ABBC-7A34E48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6D268-D171-41E9-81F4-DA03F630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BE9-5D6C-48E1-9E0B-0DAF3DE1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E8320-9212-48A3-ACF5-9EEBE6E3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6703-4053-442B-9413-DF6600C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41490-147B-47BD-9497-3AD593DE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DDF9-FDD4-4002-9DF1-3EE432A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F321-1FD9-4C8A-92A8-13F26EEE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B3B18-1BAD-4F01-89E5-3922D92E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FC360-ED1B-4B25-BECE-BAEB617F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DFB-9CDB-4E77-9E66-673F915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ED9-F2A9-41CC-B908-A6C82E2D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ADD-FF84-4C27-9668-0B5D6380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E20-C080-4F73-8E1F-823084E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CCF-AF2C-4F67-AB9B-9E3449B6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E97-E54A-44BA-9CFD-D546EB7C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31E-79F0-4CD1-81E5-DA78517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C82D-904F-4AA0-887C-5810E84A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C73-B8E7-4147-8D0D-5682292F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8908-C035-473E-9728-18C0CD30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C840-E9DA-4F20-9E1D-0ADA1675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342-5D90-4682-9E20-F22F8E5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D4B5-0070-4143-B658-0405010E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FFA4-35AE-4695-B828-A8EA06A0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ED18-127C-4794-BDDB-DF999925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F623-5A16-4438-8CBB-DB9BAD2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52F-71D4-4165-B33E-06BA380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6A1-83BB-427F-9BC5-49C59D7A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E834-D0D4-4E5E-ABA0-D93C28E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4B6-52DF-4F2A-9FA1-22DA32AB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95C2-E164-4EE7-9924-26A56B7C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A7F7-6AA0-43DF-B79D-E2296E42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2469-66BE-4991-A751-F8481D33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AB5F6-FAC8-4ACA-94D3-9E2795B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35A9-848F-4443-91E3-337878F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6E48-73CE-4FA0-AF59-38EFBC79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32C4-1610-4231-AFAE-67982EA2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2569-5F2E-4B7C-AD03-424708A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378A-4B4C-4CED-B9BF-21EBC63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FF6C-5C7F-4655-BF68-BF1C682E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82BE-5A23-472D-9E5E-6D6463F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743D-0628-4F91-A1FF-B450BCD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234B-AF92-4D8F-9BE5-045341A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DA02-6400-48DA-9DE5-85CED876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B366-475B-4903-8DC0-749A603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1686-CC3D-4942-B9DE-8037E09B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AF7B-01D2-4D89-B4F5-F9C6AA5C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D3CC-752F-40ED-B50F-EA891F77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8262-677D-46FE-B619-B84F1DD8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63FE-E7D7-4B3B-BBE0-0702084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79DD-3E7F-4ACA-A985-A177EF6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77BB-2B23-447E-B63C-87702B1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BB9B-6C8C-43B9-9554-60A7A5F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C492-6983-4013-BBE4-D7097EB5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27E6-C16E-4EB0-A50E-80CC792C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15D6-008F-43AC-B845-0FB5C0F4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F9396-D036-42A8-8810-EFB2271F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B23C-AA4C-4C90-BAD1-EE0BD8C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49B10-841E-45DB-BC9A-F27B842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F5BEB-C3AA-44C4-8AFE-922AD9B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EF30-84FA-4F4D-9B14-20352CDB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195C9-2264-4286-B372-7C39BF66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6442E-0A95-4A2F-99B0-D8C8EFD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7CA4-15E3-4B7F-8767-9FC5F3F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FC81-05C5-411B-9730-B3BCB2B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DE0E-9614-440B-B051-8CDEC4FF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536D-03C2-4450-A963-7E799A50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8CC9-2555-4A07-971A-B159102E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7AC0-0104-4BB4-9BF1-8AF2585B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30AD0-CB80-4CEA-9216-0EDE92EC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B267B-185A-4793-BF7D-15663809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D5F6-CEE3-47CB-B6DF-6EB98209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248E-9008-4455-8C67-A562CF8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8E3A-096D-4BC7-9293-2E679F3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BBCA1-7FE7-4AD1-850E-BDA593F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BFAED-3A68-4B52-92EB-F84B3D8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404F-1D65-4473-80E9-7423DE54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F62C6-F065-44B8-8F39-7247CBE8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D1D3-9AA9-4701-807B-52C9789A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11017-5B12-49D8-B4CD-EE83D3B7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2A86C-CAA9-4D06-8319-AF6BD44D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DAFF-BE78-4F9E-B472-59707C6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00BC-6B43-4E25-8BAF-B7660CF9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3AA0-0236-41CC-A2CA-90447016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32C5-787C-443B-82CE-2A6CBCEB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0CF3A-F6C9-48B7-A32D-7340B28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F1CD-E917-4430-B736-E3F12D2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01B3-34DA-4175-9374-557B0162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601C-2FE5-40E5-AC4A-4C42BD6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637A-6B12-43FE-93F0-EFA51013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3F00-8EB4-4A15-9A26-3501DE3C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D476C-AEA9-49CF-9B2A-A3BA0C37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F287-772B-45EA-821A-D92C3C8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49BFD-3949-48E1-80F4-34DBE954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Imagen" descr="GRadne.jpg"/>
          <p:cNvPicPr/>
          <p:nvPr/>
        </p:nvPicPr>
        <p:blipFill>
          <a:blip r:embed="rId2"/>
          <a:stretch/>
        </p:blipFill>
        <p:spPr>
          <a:xfrm>
            <a:off x="0" y="0"/>
            <a:ext cx="6429240" cy="1143000"/>
          </a:xfrm>
          <a:prstGeom prst="rect">
            <a:avLst/>
          </a:prstGeom>
          <a:ln w="0">
            <a:noFill/>
          </a:ln>
        </p:spPr>
      </p:pic>
      <p:sp>
        <p:nvSpPr>
          <p:cNvPr id="351" name="2 Rectángulo"/>
          <p:cNvSpPr/>
          <p:nvPr/>
        </p:nvSpPr>
        <p:spPr>
          <a:xfrm>
            <a:off x="0" y="1143000"/>
            <a:ext cx="2357280" cy="571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3 Rectángulo redondeado"/>
          <p:cNvSpPr/>
          <p:nvPr/>
        </p:nvSpPr>
        <p:spPr>
          <a:xfrm>
            <a:off x="357120" y="364320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Element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4 Rectángulo redondeado">
            <a:hlinkClick r:id="rId3" action="ppaction://hlinksldjump"/>
          </p:cNvPr>
          <p:cNvSpPr/>
          <p:nvPr/>
        </p:nvSpPr>
        <p:spPr>
          <a:xfrm>
            <a:off x="357120" y="471492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Factores de conting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5 Rectángulo redondeado"/>
          <p:cNvSpPr/>
          <p:nvPr/>
        </p:nvSpPr>
        <p:spPr>
          <a:xfrm>
            <a:off x="357120" y="578628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Configuració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organiz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6 Rectángulo redondeado">
            <a:hlinkClick r:id="rId4" action="ppaction://hlinksldjump"/>
          </p:cNvPr>
          <p:cNvSpPr/>
          <p:nvPr/>
        </p:nvSpPr>
        <p:spPr>
          <a:xfrm>
            <a:off x="357120" y="150012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7 Rectángulo redondeado">
            <a:hlinkClick r:id="rId5" action="ppaction://hlinksldjump"/>
          </p:cNvPr>
          <p:cNvSpPr/>
          <p:nvPr/>
        </p:nvSpPr>
        <p:spPr>
          <a:xfrm>
            <a:off x="357120" y="2571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92e852"/>
          </a:solidFill>
          <a:ln w="25560">
            <a:solidFill>
              <a:srgbClr val="92e8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a0a5e"/>
                </a:solidFill>
                <a:latin typeface="Calibri"/>
              </a:rPr>
              <a:t>descrip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8 Rectángulo" descr=""/>
          <p:cNvPicPr/>
          <p:nvPr/>
        </p:nvPicPr>
        <p:blipFill>
          <a:blip r:embed="rId6"/>
          <a:stretch/>
        </p:blipFill>
        <p:spPr>
          <a:xfrm>
            <a:off x="4059360" y="6407280"/>
            <a:ext cx="3457440" cy="334800"/>
          </a:xfrm>
          <a:prstGeom prst="rect">
            <a:avLst/>
          </a:prstGeom>
          <a:ln w="0">
            <a:noFill/>
          </a:ln>
        </p:spPr>
      </p:pic>
      <p:pic>
        <p:nvPicPr>
          <p:cNvPr id="358" name="9 Rectángulo" descr=""/>
          <p:cNvPicPr/>
          <p:nvPr/>
        </p:nvPicPr>
        <p:blipFill>
          <a:blip r:embed="rId7"/>
          <a:stretch/>
        </p:blipFill>
        <p:spPr>
          <a:xfrm>
            <a:off x="6566040" y="122400"/>
            <a:ext cx="2797200" cy="334800"/>
          </a:xfrm>
          <a:prstGeom prst="rect">
            <a:avLst/>
          </a:prstGeom>
          <a:ln w="0">
            <a:noFill/>
          </a:ln>
        </p:spPr>
      </p:pic>
      <p:pic>
        <p:nvPicPr>
          <p:cNvPr id="359" name="10 Rectángulo" descr=""/>
          <p:cNvPicPr/>
          <p:nvPr/>
        </p:nvPicPr>
        <p:blipFill>
          <a:blip r:embed="rId8"/>
          <a:stretch/>
        </p:blipFill>
        <p:spPr>
          <a:xfrm>
            <a:off x="6566040" y="480960"/>
            <a:ext cx="2869920" cy="336600"/>
          </a:xfrm>
          <a:prstGeom prst="rect">
            <a:avLst/>
          </a:prstGeom>
          <a:ln w="0">
            <a:noFill/>
          </a:ln>
        </p:spPr>
      </p:pic>
      <p:pic>
        <p:nvPicPr>
          <p:cNvPr id="360" name="11 Imagen" descr="20081124094235icono20inicio.jpg"/>
          <p:cNvPicPr/>
          <p:nvPr/>
        </p:nvPicPr>
        <p:blipFill>
          <a:blip r:embed="rId9"/>
          <a:stretch/>
        </p:blipFill>
        <p:spPr>
          <a:xfrm>
            <a:off x="8572680" y="6072120"/>
            <a:ext cx="452160" cy="452520"/>
          </a:xfrm>
          <a:prstGeom prst="rect">
            <a:avLst/>
          </a:prstGeom>
          <a:ln w="0">
            <a:noFill/>
          </a:ln>
        </p:spPr>
      </p:pic>
      <p:pic>
        <p:nvPicPr>
          <p:cNvPr id="361" name="12 Rectángulo" descr=""/>
          <p:cNvPicPr/>
          <p:nvPr/>
        </p:nvPicPr>
        <p:blipFill>
          <a:blip r:embed="rId10"/>
          <a:stretch/>
        </p:blipFill>
        <p:spPr>
          <a:xfrm>
            <a:off x="8564400" y="6492960"/>
            <a:ext cx="470160" cy="231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16F9-FFF7-4A92-A2BC-4D219AA2467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371C-C667-43DC-9677-8C4F4D7C753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1872-C18C-4C82-980A-C3229B90F838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40F0-F44E-4E46-BF54-E277EB741231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C0F4-5B08-41C1-8538-9E650DB612B6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2EE9-6578-4E3F-B59F-2613F9E8AE0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280-9763-4339-9885-A96C2E60ACE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AAC-B59D-49E0-8B0E-EAEFB484250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384-1744-461C-B342-6191A81027A9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4E99-51F5-4D23-AC71-927CB09A5A4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a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0B41-4BF0-43C5-9740-711C3EC6AFF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6 Imagen" descr="20080805214103183_1.jpg"/>
          <p:cNvPicPr/>
          <p:nvPr/>
        </p:nvPicPr>
        <p:blipFill>
          <a:blip r:embed="rId1"/>
          <a:stretch/>
        </p:blipFill>
        <p:spPr>
          <a:xfrm>
            <a:off x="4857840" y="3000240"/>
            <a:ext cx="3389400" cy="2535480"/>
          </a:xfrm>
          <a:prstGeom prst="rect">
            <a:avLst/>
          </a:prstGeom>
          <a:ln w="0">
            <a:noFill/>
          </a:ln>
        </p:spPr>
      </p:pic>
      <p:pic>
        <p:nvPicPr>
          <p:cNvPr id="518" name="7 Imagen" descr="DeloitteTopGreen15Award_large.jpg"/>
          <p:cNvPicPr/>
          <p:nvPr/>
        </p:nvPicPr>
        <p:blipFill>
          <a:blip r:embed="rId2"/>
          <a:stretch/>
        </p:blipFill>
        <p:spPr>
          <a:xfrm>
            <a:off x="2500200" y="3786120"/>
            <a:ext cx="2857680" cy="2382840"/>
          </a:xfrm>
          <a:prstGeom prst="rect">
            <a:avLst/>
          </a:prstGeom>
          <a:ln w="0">
            <a:noFill/>
          </a:ln>
        </p:spPr>
      </p:pic>
      <p:pic>
        <p:nvPicPr>
          <p:cNvPr id="519" name="8 Imagen" descr="Trabajadores_oficinas_ocupa_Deloitte_Torre_Picasso.jpg"/>
          <p:cNvPicPr/>
          <p:nvPr/>
        </p:nvPicPr>
        <p:blipFill>
          <a:blip r:embed="rId3"/>
          <a:stretch/>
        </p:blipFill>
        <p:spPr>
          <a:xfrm>
            <a:off x="6929280" y="1857240"/>
            <a:ext cx="2071800" cy="1816200"/>
          </a:xfrm>
          <a:prstGeom prst="rect">
            <a:avLst/>
          </a:prstGeom>
          <a:ln w="0">
            <a:noFill/>
          </a:ln>
        </p:spPr>
      </p:pic>
      <p:pic>
        <p:nvPicPr>
          <p:cNvPr id="520" name="9 Imagen" descr="Deloitte-Australia.jpg"/>
          <p:cNvPicPr/>
          <p:nvPr/>
        </p:nvPicPr>
        <p:blipFill>
          <a:blip r:embed="rId4"/>
          <a:stretch/>
        </p:blipFill>
        <p:spPr>
          <a:xfrm>
            <a:off x="2500200" y="1357200"/>
            <a:ext cx="30704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1 Rectángulo" descr=""/>
          <p:cNvPicPr/>
          <p:nvPr/>
        </p:nvPicPr>
        <p:blipFill>
          <a:blip r:embed="rId1"/>
          <a:stretch/>
        </p:blipFill>
        <p:spPr>
          <a:xfrm>
            <a:off x="4108320" y="1646280"/>
            <a:ext cx="2438640" cy="536400"/>
          </a:xfrm>
          <a:prstGeom prst="rect">
            <a:avLst/>
          </a:prstGeom>
          <a:ln w="0">
            <a:noFill/>
          </a:ln>
        </p:spPr>
      </p:pic>
      <p:sp>
        <p:nvSpPr>
          <p:cNvPr id="522" name="2 CuadroTexto"/>
          <p:cNvSpPr/>
          <p:nvPr/>
        </p:nvSpPr>
        <p:spPr>
          <a:xfrm>
            <a:off x="2643120" y="2395440"/>
            <a:ext cx="62150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Deloitte define sus actividades en el registro mercantil de la siguiente manera: Realizar toda clase de </a:t>
            </a:r>
            <a:r>
              <a:rPr b="1" lang="es-ES" sz="1400" spc="-1" strike="noStrike">
                <a:solidFill>
                  <a:srgbClr val="92e852"/>
                </a:solidFill>
                <a:latin typeface="Calibri"/>
              </a:rPr>
              <a:t>auditorias</a:t>
            </a: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, totales o parciales de cuentas económicas financieras, informáticas, de transacciones y saldos en Internet, de gestión y operativas, en el ámbito nacional  e internac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De su actividad extraemos que sus dos actividades principales son la auditoria de cuentas y la consultaría de empresas en distintos ámbitos. Deloitte pertenece a las llamadas Big four que son las 4 multinacionales de servicios profesionales más importantes del mundo este grupo está formado por Ernst &amp; young, Pricewaterhousecoopers, KPMG y Deloitte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2e852"/>
                </a:solidFill>
                <a:latin typeface="Calibri"/>
              </a:rPr>
              <a:t>Se las conoce de esta manera por el gran poder que ostentan entre las 4, ya que son ellas las que se reparten prácticamente todo el pastel de los servicios profesion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1 Rectángulo" descr=""/>
          <p:cNvPicPr/>
          <p:nvPr/>
        </p:nvPicPr>
        <p:blipFill>
          <a:blip r:embed="rId1"/>
          <a:stretch/>
        </p:blipFill>
        <p:spPr>
          <a:xfrm>
            <a:off x="3828960" y="1712880"/>
            <a:ext cx="3310200" cy="542880"/>
          </a:xfrm>
          <a:prstGeom prst="rect">
            <a:avLst/>
          </a:prstGeom>
          <a:ln w="0">
            <a:noFill/>
          </a:ln>
        </p:spPr>
      </p:pic>
      <p:sp>
        <p:nvSpPr>
          <p:cNvPr id="524" name="3 CuadroTexto"/>
          <p:cNvSpPr/>
          <p:nvPr/>
        </p:nvSpPr>
        <p:spPr>
          <a:xfrm>
            <a:off x="3000240" y="241632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4 CuadroTexto"/>
          <p:cNvSpPr/>
          <p:nvPr/>
        </p:nvSpPr>
        <p:spPr>
          <a:xfrm>
            <a:off x="3000240" y="30592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5 CuadroTexto"/>
          <p:cNvSpPr/>
          <p:nvPr/>
        </p:nvSpPr>
        <p:spPr>
          <a:xfrm>
            <a:off x="3000240" y="37018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LOGOTIPO E IDENTIDAD CORPOR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6 CuadroTexto"/>
          <p:cNvSpPr/>
          <p:nvPr/>
        </p:nvSpPr>
        <p:spPr>
          <a:xfrm>
            <a:off x="3000240" y="441648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MISIÓN Y VISIÓN DE LA EMPR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7 CuadroTexto"/>
          <p:cNvSpPr/>
          <p:nvPr/>
        </p:nvSpPr>
        <p:spPr>
          <a:xfrm>
            <a:off x="3000240" y="5130720"/>
            <a:ext cx="49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e8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2e852"/>
                </a:solidFill>
                <a:latin typeface="Calibri"/>
              </a:rPr>
              <a:t>DELOITTE EN EL MU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1 Rectángulo" descr=""/>
          <p:cNvPicPr/>
          <p:nvPr/>
        </p:nvPicPr>
        <p:blipFill>
          <a:blip r:embed="rId1"/>
          <a:stretch/>
        </p:blipFill>
        <p:spPr>
          <a:xfrm>
            <a:off x="4675320" y="1432080"/>
            <a:ext cx="1633320" cy="536400"/>
          </a:xfrm>
          <a:prstGeom prst="rect">
            <a:avLst/>
          </a:prstGeom>
          <a:ln w="0">
            <a:noFill/>
          </a:ln>
        </p:spPr>
      </p:pic>
      <p:sp>
        <p:nvSpPr>
          <p:cNvPr id="530" name="6 Rectángulo"/>
          <p:cNvSpPr/>
          <p:nvPr/>
        </p:nvSpPr>
        <p:spPr>
          <a:xfrm>
            <a:off x="2857680" y="3857760"/>
            <a:ext cx="5929200" cy="7128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7 Rectángulo"/>
          <p:cNvSpPr/>
          <p:nvPr/>
        </p:nvSpPr>
        <p:spPr>
          <a:xfrm>
            <a:off x="278604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9 Rectángulo" descr=""/>
          <p:cNvPicPr/>
          <p:nvPr/>
        </p:nvPicPr>
        <p:blipFill>
          <a:blip r:embed="rId2"/>
          <a:stretch/>
        </p:blipFill>
        <p:spPr>
          <a:xfrm>
            <a:off x="2548080" y="4121280"/>
            <a:ext cx="628560" cy="334800"/>
          </a:xfrm>
          <a:prstGeom prst="rect">
            <a:avLst/>
          </a:prstGeom>
          <a:ln w="0">
            <a:noFill/>
          </a:ln>
        </p:spPr>
      </p:pic>
      <p:sp>
        <p:nvSpPr>
          <p:cNvPr id="533" name="11 Rectángulo"/>
          <p:cNvSpPr/>
          <p:nvPr/>
        </p:nvSpPr>
        <p:spPr>
          <a:xfrm>
            <a:off x="421488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13 Rectángulo" descr=""/>
          <p:cNvPicPr/>
          <p:nvPr/>
        </p:nvPicPr>
        <p:blipFill>
          <a:blip r:embed="rId3"/>
          <a:stretch/>
        </p:blipFill>
        <p:spPr>
          <a:xfrm>
            <a:off x="4475160" y="4121280"/>
            <a:ext cx="627120" cy="334800"/>
          </a:xfrm>
          <a:prstGeom prst="rect">
            <a:avLst/>
          </a:prstGeom>
          <a:ln w="0">
            <a:noFill/>
          </a:ln>
        </p:spPr>
      </p:pic>
      <p:sp>
        <p:nvSpPr>
          <p:cNvPr id="535" name="14 Pergamino horizontal"/>
          <p:cNvSpPr/>
          <p:nvPr/>
        </p:nvSpPr>
        <p:spPr>
          <a:xfrm>
            <a:off x="2428920" y="4357800"/>
            <a:ext cx="114300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Primera oficina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15 Pergamino horizontal"/>
          <p:cNvSpPr/>
          <p:nvPr/>
        </p:nvSpPr>
        <p:spPr>
          <a:xfrm>
            <a:off x="4143240" y="4286160"/>
            <a:ext cx="121464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Colaboración hanskin &amp; sell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16 Rectángulo" descr=""/>
          <p:cNvPicPr/>
          <p:nvPr/>
        </p:nvPicPr>
        <p:blipFill>
          <a:blip r:embed="rId4"/>
          <a:stretch/>
        </p:blipFill>
        <p:spPr>
          <a:xfrm>
            <a:off x="4048200" y="3333600"/>
            <a:ext cx="627120" cy="336600"/>
          </a:xfrm>
          <a:prstGeom prst="rect">
            <a:avLst/>
          </a:prstGeom>
          <a:ln w="0">
            <a:noFill/>
          </a:ln>
        </p:spPr>
      </p:pic>
      <p:sp>
        <p:nvSpPr>
          <p:cNvPr id="538" name="17 Rectángulo"/>
          <p:cNvSpPr/>
          <p:nvPr/>
        </p:nvSpPr>
        <p:spPr>
          <a:xfrm>
            <a:off x="478620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18 Pergamino horizontal"/>
          <p:cNvSpPr/>
          <p:nvPr/>
        </p:nvSpPr>
        <p:spPr>
          <a:xfrm>
            <a:off x="3786120" y="2500200"/>
            <a:ext cx="114300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Touche crea oficina de contabilid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20 Rectángulo"/>
          <p:cNvSpPr/>
          <p:nvPr/>
        </p:nvSpPr>
        <p:spPr>
          <a:xfrm>
            <a:off x="621504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21 Rectángulo"/>
          <p:cNvSpPr/>
          <p:nvPr/>
        </p:nvSpPr>
        <p:spPr>
          <a:xfrm>
            <a:off x="7643880" y="3714840"/>
            <a:ext cx="46080" cy="357120"/>
          </a:xfrm>
          <a:prstGeom prst="rect">
            <a:avLst/>
          </a:prstGeom>
          <a:solidFill>
            <a:srgbClr val="92e8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22 Rectángulo" descr=""/>
          <p:cNvPicPr/>
          <p:nvPr/>
        </p:nvPicPr>
        <p:blipFill>
          <a:blip r:embed="rId5"/>
          <a:stretch/>
        </p:blipFill>
        <p:spPr>
          <a:xfrm>
            <a:off x="7407360" y="4121280"/>
            <a:ext cx="627120" cy="334800"/>
          </a:xfrm>
          <a:prstGeom prst="rect">
            <a:avLst/>
          </a:prstGeom>
          <a:ln w="0">
            <a:noFill/>
          </a:ln>
        </p:spPr>
      </p:pic>
      <p:pic>
        <p:nvPicPr>
          <p:cNvPr id="543" name="23 Rectángulo" descr=""/>
          <p:cNvPicPr/>
          <p:nvPr/>
        </p:nvPicPr>
        <p:blipFill>
          <a:blip r:embed="rId6"/>
          <a:stretch/>
        </p:blipFill>
        <p:spPr>
          <a:xfrm>
            <a:off x="5973840" y="3333600"/>
            <a:ext cx="628560" cy="336600"/>
          </a:xfrm>
          <a:prstGeom prst="rect">
            <a:avLst/>
          </a:prstGeom>
          <a:ln w="0">
            <a:noFill/>
          </a:ln>
        </p:spPr>
      </p:pic>
      <p:sp>
        <p:nvSpPr>
          <p:cNvPr id="544" name="24 Pergamino horizontal"/>
          <p:cNvSpPr/>
          <p:nvPr/>
        </p:nvSpPr>
        <p:spPr>
          <a:xfrm>
            <a:off x="5715000" y="2500200"/>
            <a:ext cx="121428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Fusión Deloitte &amp; Touc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25 Pergamino horizontal"/>
          <p:cNvSpPr/>
          <p:nvPr/>
        </p:nvSpPr>
        <p:spPr>
          <a:xfrm>
            <a:off x="7143840" y="4357800"/>
            <a:ext cx="1214280" cy="10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a0a5e"/>
                </a:solidFill>
                <a:latin typeface="Calibri"/>
              </a:rPr>
              <a:t>Andersen se integra en Deloit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59:04Z</dcterms:created>
  <dc:creator>Santi</dc:creator>
  <dc:description/>
  <dc:language>en-US</dc:language>
  <cp:lastModifiedBy>Santi</cp:lastModifiedBy>
  <dcterms:modified xsi:type="dcterms:W3CDTF">2009-04-22T17:19:58Z</dcterms:modified>
  <cp:revision>51</cp:revision>
  <dc:subject/>
  <dc:title>Diapositiva 1</dc:title>
</cp:coreProperties>
</file>